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F6F1-9F38-4C3B-991C-2773602B6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5FDB-6137-49B1-A2C7-A516CFFCE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25A0-99C6-4591-BB63-D3A127530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C062-4158-4BEF-A50F-9905E2DAF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8895-083C-4C9E-BD71-34C892C57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21B1-CBDD-43DB-AD1F-04D9273BB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0631-6D5B-4FA9-999A-D23E644D9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9B0A-05DC-4CED-9290-4D7603251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4AF7-5B23-465A-BF13-880D5D775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7E19-AF3C-40D6-9CFB-735C27E9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4383-74AB-440E-B808-6CF7D830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647B-E28F-43F5-8169-C11842D3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611C4-566F-4385-BB20-6DD1305CD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A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 Johnson Zachary Sullins Quentin Ree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FIRST A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ogan for first a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aid will make you b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 on first a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rst a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provision of initial care for an illness or injury. It is usually performed by a lay person to a sick or injured casualty until definitive medical treatment can be accessed. Certain self-limiting illnesses or minor injuries may not require further medical care past the first aid intervention. It generally consists of a series of simple and, in some cases, potentially life-saving techniques that an individual can be trained to perform with minimal equip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5120" y="151920"/>
            <a:ext cx="5410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mily First A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 Proof First Aid K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14400" y="1638360"/>
            <a:ext cx="647712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14680" y="1371600"/>
            <a:ext cx="5715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7T15:18:22Z</dcterms:created>
  <dc:creator> </dc:creator>
  <dc:description/>
  <dc:language>en-US</dc:language>
  <cp:lastModifiedBy> </cp:lastModifiedBy>
  <dcterms:modified xsi:type="dcterms:W3CDTF">2009-09-17T15:46:10Z</dcterms:modified>
  <cp:revision>2</cp:revision>
  <dc:subject/>
  <dc:title>First Aid</dc:title>
</cp:coreProperties>
</file>